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9A9D7-F032-47A1-AC89-1704FBC4854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熟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药疗期间的护理须知（药疗监护内容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了解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护士在合理用药中的作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3C60E-6AAC-4996-A3AD-6DA0309CBDB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1D88A-4D8A-4A42-9EFC-0C01CA8A72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FD475-BB6E-467A-AEC8-A7B9692DA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EB107-102A-4204-9780-01589E63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060B5-A9EA-4139-9B15-2ED677CAF4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5B9BB-B9D9-4AF1-B0B0-1F567311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0E45B-D121-4338-A82C-B74D59FF1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E28D9-23D9-43AC-A7FC-6B7AB27CA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7F9EA-6A4F-44C4-AB10-5CAD7F692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450D0-AF96-4DEA-A03B-8B0ABBB99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200A3-DCBD-4E0F-A5EB-0B96C1AF5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85B60-CB61-4FEA-8C20-92D75D6B9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843B0-174C-4A27-92F2-F1F937086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BB414-586B-4A74-A47E-6880B7127D5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92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一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绪论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1557000"/>
            <a:ext cx="830448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熟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药疗期间的护理须知（药疗监护内容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护士在合理用药中的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TW" sz="3600" spc="-1" strike="noStrike">
                <a:solidFill>
                  <a:srgbClr val="ffffff"/>
                </a:solidFill>
                <a:latin typeface="华文新魏"/>
              </a:rPr>
              <a:t>一、护理药理学内容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125000"/>
            <a:ext cx="8610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药理学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pharmacology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）是研究药物与机体相互作用规律和原理的学科，包括药效学和药动学两方面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前者是阐明药物对机体的作用和作用原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后者阐明药物在机体内吸收、分布、生物转化和排泄等过程，及血药浓度随时间消长的规律，以达到指导临床合理用药的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护理药理学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pharmacology in nursing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）应是药理学的一个分支，它以人为对象，阐述临床如何合理用药和护士在合理用药中的地位及作用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55640" y="304560"/>
            <a:ext cx="635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华文新魏"/>
              </a:rPr>
              <a:t>二、护士在临床用药中的作用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护士在临床第一线工作，是各种药物治疗的实施者，也是用药前后的监护者，因此护理人员在临床药物治疗中居重要地位。护士掌握更多的药理学知识，能更好协助医生诊治疾病和合理用药，使药物治疗达到最佳效果，对提高护理质量和医疗质量都具有重要意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10920" y="304560"/>
            <a:ext cx="6504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TW" sz="3600" spc="-1" strike="noStrike">
                <a:solidFill>
                  <a:srgbClr val="ffffff"/>
                </a:solidFill>
                <a:latin typeface="华文新魏"/>
              </a:rPr>
              <a:t>三、药物治疗期间的护理须知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在药疗期间护理工作应注意以下几点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在执行医嘱前，应了解患者的诊断和病情，明确用药目的，掌握所用药物的药理作用、给药途径、剂量、用法、不良反应及防治措施和其它有关注意事项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护士应严格按医嘱给患者用药，若对医嘱有疑问时，应先与医生联系后再执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在执行用药医嘱时，要做到明确医嘱目的，准确掌握剂量和用法，避免技术性事故发生，以提高护理质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对不熟悉的药物，在用药前应查阅书籍，了解其药理作用，不良反应和护理注意事项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在整个药物治疗过程中，护士有责任随时指导患者合理用药，在患者出院时也应向患者及其家属讲解所带药物的有关知识，特别是一些常见不良反应和注意事项，以保证出院后继续用药的安全有效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标题 1"/>
          <p:cNvSpPr/>
          <p:nvPr/>
        </p:nvSpPr>
        <p:spPr>
          <a:xfrm>
            <a:off x="2411280" y="304920"/>
            <a:ext cx="65041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TW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三、药物治疗期间的护理须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思考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．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简述护士在合理用药中的作用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2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．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试述药物治疗期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间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的护理须知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09:34:34Z</dcterms:modified>
  <cp:revision>90</cp:revision>
  <dc:subject/>
  <dc:title>内科护理学</dc:title>
</cp:coreProperties>
</file>